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3E9-CFC9-4775-B0A2-4E600DCA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A94-F87F-4C21-B365-D83079F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269-8431-4670-B422-23092EE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F8E-E0F5-42CA-B3BE-2A60EF2A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13A-49CC-416E-BC9A-BC64600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B8E-24D8-4EF8-BA0F-6B01BA2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25C-1AD8-4A9E-8397-8C7C19D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C66-7C11-4CD3-983B-EB1F161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8F4-FCB5-47FF-8C12-A6E005E9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CD9-1878-4C76-B1FD-2B2306F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8DA-141C-40E1-8BDB-2FDCAA0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0AC-FAA2-40D4-9D63-163A69F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8C59-FB25-43E0-B7CC-6E0497FF7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781360"/>
            <a:ext cx="825804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PARADIGMA CONSTRUCTIVISTA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21:18:54Z</dcterms:created>
  <dc:creator>Montse</dc:creator>
  <dc:description/>
  <dc:language>en-US</dc:language>
  <cp:lastModifiedBy>Montse</cp:lastModifiedBy>
  <dcterms:modified xsi:type="dcterms:W3CDTF">2008-12-03T21:19:30Z</dcterms:modified>
  <cp:revision>1</cp:revision>
  <dc:subject/>
  <dc:title>Diapositiva 1</dc:title>
</cp:coreProperties>
</file>